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4EFD1D-C538-4768-94FB-5F1384521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37A054-9907-4DB3-A724-F9CA29A4413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2F8F6C-0053-4E85-86B9-349EECE189D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A7EBAC-FF83-44CB-BB95-A9CBDE18B15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2E9456-CA7C-4129-9DDF-C7353BABBF0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F68F07-3F39-4D1C-B70F-3721B8C7F17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CCE414-F78D-4FF6-87A9-33871ED7E40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6842B1-2310-4A0F-8CC6-EFDF44BF30F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E32877-290B-49EC-BB6D-BDF98DF9BCA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EE10F7-7EBB-4F08-99D1-9042473551B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01467E-50C4-4203-8411-82C8F21FD86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A73FFF-79D8-408B-8055-04C555BDC0E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292E87-9A6C-4FBB-9D03-C1A13C4EA0A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B173-55AF-4030-AFD9-CCAD3E475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6B8A-3CFD-4EED-A019-F50093E6E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02F7-B826-419B-A182-F299E7E44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32E9-FD15-409B-9EF1-18F6972E5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3914D-D3BE-4ECB-8435-E6EBE119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661F4-4269-4064-8254-B292742E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C5E2B-DF3A-4552-AF58-517B5113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85EA7-A089-4605-A4E4-B4D529B4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8AF64-F6FA-4B4C-8B4C-67E71454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5A811-45E8-45F1-BC9C-BE6AF420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15D3B-E6CC-40A2-8F82-FEAD7437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A7CE-DD78-41A6-9A01-BA670D446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C91E6-F444-4F13-B02A-3BE818F2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7704A-67A7-486E-90EA-60C405F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C85D3-BE98-4E41-8078-46ECCBD2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649C6-E943-4EA4-B5C8-9BBAA86A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69ACE-6C7C-4B9D-9965-2A77675F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9281-3B99-4E19-BFBB-89535A6D6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8B8B-71D6-40E2-817E-9DF12969D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1289-9D4C-4800-855D-19214E8DE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4C0A-9EC0-48CA-8D00-355E891EB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3FE7-ED28-401F-918C-8608467C0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6CFA-5031-45EA-B841-B923B68A8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F38F-150A-4793-8D52-9849CA2D4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C1D4-5183-45FB-9DDF-DC6C934D7FA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3086-9FA5-4A2A-840B-B84687390909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203640" y="640080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567A-8AD4-4F8A-94F2-075E4B7A387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5946-62D2-492B-9B02-A5356441A56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187280" y="2133720"/>
            <a:ext cx="712980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Comic Sans MS"/>
              </a:rPr>
              <a:t>Тропске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00"/>
                </a:solidFill>
                <a:latin typeface="Comic Sans MS"/>
              </a:rPr>
              <a:t>Предавањ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e9f913"/>
                </a:solidFill>
                <a:latin typeface="Comic Sans MS"/>
              </a:rPr>
              <a:t>Патологија узрокована топлом клим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CEA0-800A-49B8-894F-75BDEB9F4E7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066680" y="2588400"/>
            <a:ext cx="66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3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Д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3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ипер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3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Мањак и вишак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3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ремећај ацидо-базне равноте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130000"/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иповолемија и хиповолемијски ш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982800" y="1371600"/>
            <a:ext cx="60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Поремећаји метаболизма воде и електроли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06C4-3635-43FF-BBE2-89A40D2ED81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116000" y="1047960"/>
            <a:ext cx="74674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Д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ехидратација организма настаје услед нефизиолошки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прекомерних губитака или недовољног уношења воде и/и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електролита у организ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Подела дехидрат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Хипертонијска (хиперосмотска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Хипотонијска (хипоосмотска)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отонијска (изоосмотск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D8C8-27D0-4589-809E-FF8813B443F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1187280" y="453600"/>
            <a:ext cx="748836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20000"/>
              </a:lnSpc>
              <a:buClr>
                <a:srgbClr val="ffff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Хипертонијска дехидр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Хипертонијска дехидрација настаје услед дефицита во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Етиологиј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едовољно уношење воде (болесници без свести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Појачани губитак воде преко плућа (грозница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Појачани губитак воде преко коже (знојење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иабетес инсипидус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иабетес меллиту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Полиурична фаза акутне бубрежне инсуфицијенциј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2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CE26-2E3E-46DD-9DFB-8EE012BAA48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900000" y="465300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ормално стањ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ефицит воде: смањен волумен ЕЦТ, а повећан њен осмолалитет;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ода дифундује из ИЦ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ЕЦТ (ћелијска дихадратација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Смањен волумен ЕЦТ и ИЦТ и повећана осмолалност ЕЦТ и ИЦ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1066680" y="1541520"/>
          <a:ext cx="733428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41520"/>
                    <a:ext cx="733428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4"/>
          <p:cNvSpPr/>
          <p:nvPr/>
        </p:nvSpPr>
        <p:spPr>
          <a:xfrm>
            <a:off x="968760" y="620640"/>
            <a:ext cx="38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Патофизиолошке последиц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4A62-4DF0-4020-A8D6-B8288929649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971640" y="784080"/>
            <a:ext cx="799308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2. Хипотонијска д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Хипотонијска дехидратација настаје услед дефицита електролита (NaCl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Етиолог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еслана дијета (болесници са хипертензијом, срчаном 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нсуфицијенцијом, цирозом јетре, ...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Губитак натријума преко бубрега (M. Addison, хронична 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бубрежна инсуфицијенција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4600" indent="-174600">
              <a:lnSpc>
                <a:spcPct val="13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Екстраренални губитак натријума (повраћање, дијареја, </a:t>
            </a: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азогастрична сукција, опекотине, ..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2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1A33-6EA8-4966-BD2A-3A6ED3F2C8B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044720" y="47520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00"/>
                </a:solidFill>
                <a:uFillTx/>
                <a:latin typeface="Arial"/>
              </a:rPr>
              <a:t>Патофизиолошке послед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00000" y="4867920"/>
            <a:ext cx="80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ормално стањ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ефицит NaCl: смањена осмолалност ЕЦ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Вода дифундује из ЕЦ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ИЦТ (смањење волумена ЕЦТ и повећање волумена ИЦТ – целуларна хиперхидрациј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1066680" y="1793880"/>
          <a:ext cx="754380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93880"/>
                    <a:ext cx="754380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4CC7-C426-43F4-B66B-9BD6FC14E61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1042920" y="1126080"/>
            <a:ext cx="792504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4040" indent="-284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3. Изотонијска д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отонијска дехидратација настаје услед равномерног дефицита воде и електролита (NaCl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ff99"/>
                </a:solidFill>
                <a:uFillTx/>
                <a:latin typeface="Arial"/>
              </a:rPr>
              <a:t>Етиолог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Губитак течности преко гастроинтестиналног тракта (акутне цревн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нфекције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рварењ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040" indent="-2840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Губитак плазме (опекотин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2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BD2F-8F58-4BD2-9E23-E8B47A129B6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763200" y="64044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ff00"/>
                </a:solidFill>
                <a:uFillTx/>
                <a:latin typeface="Arial"/>
              </a:rPr>
              <a:t>Патофизиолошке последиц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Object 3"/>
          <p:cNvGraphicFramePr/>
          <p:nvPr/>
        </p:nvGraphicFramePr>
        <p:xfrm>
          <a:off x="2114640" y="1616040"/>
          <a:ext cx="4819680" cy="27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1616040"/>
                    <a:ext cx="481968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"/>
          <p:cNvSpPr/>
          <p:nvPr/>
        </p:nvSpPr>
        <p:spPr>
          <a:xfrm>
            <a:off x="1187280" y="49406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ормално стањ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ефицит воде и електролита: смањен волумен ЕЦТ без промене осмолалности ЕЦТ; волумен ИЦТ непромење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Recorded Sound" descr=""/>
          <p:cNvPicPr/>
          <p:nvPr/>
        </p:nvPicPr>
        <p:blipFill>
          <a:blip r:embed="rId3"/>
          <a:stretch/>
        </p:blipFill>
        <p:spPr>
          <a:xfrm>
            <a:off x="853272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3089-29FC-4B1A-8DA6-86493E5824C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513720" y="30384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imes New Roman"/>
              </a:rPr>
              <a:t>Врсте д</a:t>
            </a:r>
            <a:r>
              <a:rPr b="1" i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хидрата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4000" y="838080"/>
          <a:ext cx="8439120" cy="5340600"/>
        </p:xfrm>
        <a:graphic>
          <a:graphicData uri="http://schemas.openxmlformats.org/drawingml/2006/table">
            <a:tbl>
              <a:tblPr/>
              <a:tblGrid>
                <a:gridCol w="1809720"/>
                <a:gridCol w="1904760"/>
                <a:gridCol w="2133720"/>
                <a:gridCol w="2590920"/>
              </a:tblGrid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Хипертонијс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Хипотонијс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Изотонијс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Патофизолошки поремећај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Смањен волумен уз хиперосмолитет ЕЦТ; целуларна дехидратациј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Смањен волумен уз хипоосмолитет ЕЦТ; целуларна хиперхидратациј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Смањен волумен уз изоосмолалитет ЕЦТ; волумен ИЦТ непромење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Уз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Дефицит во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Дефицит електроли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Дефицит воде и електроли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Општи симпто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Повишена темпера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Нормална темпера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Нормална темпера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Гастроинтестинални 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импто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Сув језик, јака жеђ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Влажан језик, нема жеђ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Влажан језик, нема жеђ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Неуролошки симпто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Немир, конфузија, поремећај све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Раздражљивост, конфузија, конвулзије, поремећај све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Немир, конфузиј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Кардиоваскуларни симпто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Пад притиска реда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Пад крвног притиска, тахикардиј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Пад крвног притиска, тахикардиј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Бубрежни симпто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Олигуриј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Ренална инсуфицијенциј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Олигуриј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Лабораторијске анализ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Na↑; MCV↓↓; MCHC↑; Hct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Na↓↓; MCV↑; MCHC↓↓; Hct↑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Na-N; MCV-N; MCHC-N; Hct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E637-DC63-4158-994A-CDB083F3FDB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42920" y="5493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Поремећаји изазвани високом температу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042920" y="1197000"/>
            <a:ext cx="7921800" cy="54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Хипертерм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Уводни де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Хипертермија је опште прегрејавање организма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Може бити изазвана дејством топлоте из спољашње средине (егзогена хипертермија) или повећаним стварањем топлоте у организму (ендогена хипертермија)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ahoma"/>
              </a:rPr>
              <a:t>Настанку хипертермије доприносе многи фактори :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801720" indent="-344520">
              <a:lnSpc>
                <a:spcPct val="120000"/>
              </a:lnSpc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ahoma"/>
              </a:rPr>
              <a:t>влажност атмосфере (влажан ваздух онемогућава одавање топлоте испаравањем)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801720" indent="-344520">
              <a:lnSpc>
                <a:spcPct val="120000"/>
              </a:lnSpc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ahoma"/>
              </a:rPr>
              <a:t>физички напор (услед повећаног стварања топлоте)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801720" indent="-344520">
              <a:lnSpc>
                <a:spcPct val="120000"/>
              </a:lnSpc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ahoma"/>
              </a:rPr>
              <a:t>одећа од неприродних материјала (која онемогућава вентилацију и испаравање воде са површине тела)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801720" indent="-344520">
              <a:lnSpc>
                <a:spcPct val="120000"/>
              </a:lnSpc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ahoma"/>
              </a:rPr>
              <a:t>начин исхране (чврста и калорична храна без довољно течности)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801720" indent="-344520">
              <a:lnSpc>
                <a:spcPct val="120000"/>
              </a:lnSpc>
              <a:buClr>
                <a:srgbClr val="ffffff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ahoma"/>
              </a:rPr>
              <a:t>хроничне болести (услед смањене способности компезације)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9"/>
          <p:cNvSpPr/>
          <p:nvPr/>
        </p:nvSpPr>
        <p:spPr>
          <a:xfrm>
            <a:off x="3203640" y="6400800"/>
            <a:ext cx="375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3385-84F9-43DB-A129-01A2574E2C9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036080" y="1844640"/>
            <a:ext cx="49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олумен и састав телесних те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16000" y="2845080"/>
            <a:ext cx="57913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99"/>
                </a:solidFill>
                <a:latin typeface="Arial"/>
              </a:rPr>
              <a:t>Количина воде у организ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Мушкарац: 60 ±15% Т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Жена: 50 ±15% Т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Ембрион: 94% Т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оворођенче: 80% Т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99"/>
                </a:solidFill>
                <a:latin typeface="Arial"/>
              </a:rPr>
              <a:t>Молекуларни ниво: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&gt; 90%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људско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тела молекули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&lt; 10% остали молеку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71640" y="8366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e9f913"/>
                </a:solidFill>
                <a:latin typeface="Tahoma"/>
              </a:rPr>
              <a:t>Телесне те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039D-696D-4ECD-98D9-DD2FF37B94E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1042920" y="1125360"/>
            <a:ext cx="712944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Патогенеза хипертерм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6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У настанку хипертермије разликујем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компезовану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6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декомпезовану фазу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98F6-56D5-4757-97BC-121CD17F085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971640" y="98100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Tahoma"/>
              </a:rPr>
              <a:t>I. Компезова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смањује се продукција топлоте (смањењем мишићних контракција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повећава се елиминација топлоте (периферна вазодилатација, појачано знојење и испаравање воде са површине коже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крв се усмерава у дилатиране крвне судове на површини тела уз истовремену вазокон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т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рикцију у унутрашњим органима (активношћу терморегулационог центр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рад срца је убрзан, дисање убрзано и продубље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Tahoma"/>
              </a:rPr>
              <a:t>II. Декомпезована ф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настаје генерализована вазодилатација (попушта тонус крвних судова у унутрашњим органима), а то доводи до пада крвног притиска и минутног волуме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стаје кардиоваскуларна, респираторна и бубрежна инсуфицијенц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951C-EA1F-44D5-9939-2216C6E2B42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1116000" y="1125360"/>
            <a:ext cx="720108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Клинички облици хипертерм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ипертермички колап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плотни уда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нчаниц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плотни мишићни грчев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ермогенетска анхидро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261F-39FA-43F7-87C9-DF54449E791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116000" y="1052640"/>
            <a:ext cx="770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Хипертермични колап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ипертермични колапс је облик хипертермије који карактерише краткотрајни губитак све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стаје услед вазодилатације која проузрокује нагло смањење крвног притиска и краткотрајну исхемију централног нервног систем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ање болесника се брзо поправља после постављања у хоризонтални положај или Тренделенбург-ов положај (са ниже постављеном главо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E276-9296-454C-8C19-03000181ACE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187280" y="1197000"/>
            <a:ext cx="7705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2. Топлотни уда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плотни удар настаје нагло, удруженим дејством високе температуре у спољашњој средини, велике влажности ваздуха и тешког физичког рад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иничке карактеристике топлотног удара: топла и сува кожа, млитавост скелетне мус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атуре, тахикардија (fr. 180/min), поремећаји дисања, симптоми од стране CNS-а (психомоторна раздражљивост, поспаност, поремећај вида, епилептиформни напади, кома); ректална температуре расте до 43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; едем и тачкаста крварења јављају се на мозгу и паренхимским органи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97DD-C8DA-40E0-94BA-80706658F3C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1042920" y="112536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3. Сунчн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нчаница настаје као последица дејства инфрацрвених сунчевих зрака на незаштићену потиљ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ну регију глав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псорбовна топлота доводи до локалних промена на можданицама (хиперемија, едем, а могућа су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 тачкаста крварења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клин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кој слици доминирају симптоми пренадражености ЦНС: главобоља, тахикардија, тахипнеја, халуцинације или симптоми који подсећају на манијакално-депресивни поремећај; у каснијој фази може доћи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д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рал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е можданих функција и настанка ко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F45-E13F-4E99-94BB-DC691E19BEF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900000" y="1052640"/>
            <a:ext cx="82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4. Топлотни мишићни грче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плотни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ш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и грчеви настају као последица дуготрајне изложености организма дејству високе спољашње температуре, која је праћена знојењ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нојењем се губи велика количина воде и соли (више вода него со, јер је зној хипотонијска течност); дефицит соли може да доведе до хипоосмолалности екстраћелијске течности што доводи до бубрења ћелиј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убрење можданих ћелија је праћено смањењем прага њихове надражљивости, што омогућава појаву импулса који се преносе до мишића, а што доводи до миш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их контракциј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нзумирање обичне воде погоршава ситуацију (потребно узимати минералну воду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F39C-C0DA-44C8-8FFF-1C574A15BEE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71640" y="981000"/>
            <a:ext cx="806436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5. Тропска анхидр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опска анхидроза настаје као последица милијарије (запушења пора знојних жлезда); среће се код Европљана који обављају напоран рад у топлом и влажном амбијент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инчка слика анхидрозе: умерена хипертермија праћена тахикардијом, тахипнејом и осећајем умора; истовремено се запажа знојење лица, врата и дланова, док је остала површина тела сува и прекривена папуло-везикулозним ефлоресценцијам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јагноза се заснива на клиничкој слици и анамнез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ерапијски се пре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учује миров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ње у свежој средини уз симптоматско лечење (пожељно је преселити особу у подручје са умереном климо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C71A-68ED-4495-9605-4A336B98E7B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750400" y="3019320"/>
            <a:ext cx="37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00"/>
                </a:solidFill>
                <a:latin typeface="Comic Sans MS"/>
              </a:rPr>
              <a:t>Хвала на пажњ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2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CC70-7910-450D-A511-3D221024873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181160" y="1337040"/>
            <a:ext cx="5504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5360" indent="-22536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99"/>
                </a:solidFill>
                <a:latin typeface="Arial"/>
              </a:rPr>
              <a:t>Дистрибуција телесних течности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Одељак интрацелуларне течности (ИЦТ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Одељак интерстицијумске течности (ИСТ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Одељак интраваскуларне течности (ИВТ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1692360" y="3213000"/>
          <a:ext cx="454032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454032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0F34-6543-4400-B69E-70AE368367F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Distribucija tecnosti 2 copy"/>
          <p:cNvPicPr/>
          <p:nvPr/>
        </p:nvPicPr>
        <p:blipFill>
          <a:blip r:embed="rId1"/>
          <a:stretch/>
        </p:blipFill>
        <p:spPr>
          <a:xfrm>
            <a:off x="1066680" y="409680"/>
            <a:ext cx="7543800" cy="4814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971800" y="5410080"/>
            <a:ext cx="412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99"/>
                </a:solidFill>
                <a:latin typeface="Arial Unicode MS"/>
              </a:rPr>
              <a:t>Дистрибуција телесних те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B377-3505-4594-AA33-04074C6BDA1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295280"/>
          <a:ext cx="3429000" cy="914400"/>
        </p:xfrm>
        <a:graphic>
          <a:graphicData uri="http://schemas.openxmlformats.org/drawingml/2006/table">
            <a:tbl>
              <a:tblPr/>
              <a:tblGrid>
                <a:gridCol w="2210040"/>
                <a:gridCol w="1218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Ц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d3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Ц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4444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15"/>
          <p:cNvSpPr/>
          <p:nvPr/>
        </p:nvSpPr>
        <p:spPr>
          <a:xfrm>
            <a:off x="1066680" y="3352680"/>
            <a:ext cx="701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914400" y="4572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Распоред течности у организ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" name="Group 62"/>
          <p:cNvGrpSpPr/>
          <p:nvPr/>
        </p:nvGrpSpPr>
        <p:grpSpPr>
          <a:xfrm>
            <a:off x="1332000" y="2852640"/>
            <a:ext cx="7264440" cy="2943360"/>
            <a:chOff x="1332000" y="2852640"/>
            <a:chExt cx="7264440" cy="2943360"/>
          </a:xfrm>
        </p:grpSpPr>
        <p:sp>
          <p:nvSpPr>
            <p:cNvPr id="138" name="AutoShape 18"/>
            <p:cNvSpPr/>
            <p:nvPr/>
          </p:nvSpPr>
          <p:spPr>
            <a:xfrm>
              <a:off x="1332000" y="2852640"/>
              <a:ext cx="7264440" cy="29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Rectangle 20"/>
            <p:cNvSpPr/>
            <p:nvPr/>
          </p:nvSpPr>
          <p:spPr>
            <a:xfrm>
              <a:off x="3005280" y="2859120"/>
              <a:ext cx="2311200" cy="57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3000240" y="2855880"/>
              <a:ext cx="2316240" cy="577800"/>
            </a:xfrm>
            <a:custGeom>
              <a:avLst/>
              <a:gdLst>
                <a:gd name="textAreaLeft" fmla="*/ 0 w 2316240"/>
                <a:gd name="textAreaRight" fmla="*/ 2316600 w 231624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1459" h="364">
                  <a:moveTo>
                    <a:pt x="0" y="0"/>
                  </a:moveTo>
                  <a:lnTo>
                    <a:pt x="0" y="364"/>
                  </a:lnTo>
                  <a:lnTo>
                    <a:pt x="1459" y="364"/>
                  </a:lnTo>
                  <a:lnTo>
                    <a:pt x="1459" y="0"/>
                  </a:lnTo>
                  <a:lnTo>
                    <a:pt x="0" y="0"/>
                  </a:lnTo>
                  <a:lnTo>
                    <a:pt x="3" y="7"/>
                  </a:lnTo>
                  <a:lnTo>
                    <a:pt x="1457" y="7"/>
                  </a:lnTo>
                  <a:lnTo>
                    <a:pt x="1452" y="2"/>
                  </a:lnTo>
                  <a:lnTo>
                    <a:pt x="1452" y="362"/>
                  </a:lnTo>
                  <a:lnTo>
                    <a:pt x="1457" y="357"/>
                  </a:lnTo>
                  <a:lnTo>
                    <a:pt x="3" y="357"/>
                  </a:lnTo>
                  <a:lnTo>
                    <a:pt x="7" y="362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22"/>
            <p:cNvSpPr/>
            <p:nvPr/>
          </p:nvSpPr>
          <p:spPr>
            <a:xfrm>
              <a:off x="3137760" y="2948040"/>
              <a:ext cx="2001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УКУПНА ТЕЛЕСНА ВОДА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23"/>
            <p:cNvSpPr/>
            <p:nvPr/>
          </p:nvSpPr>
          <p:spPr>
            <a:xfrm>
              <a:off x="3624120" y="3144960"/>
              <a:ext cx="89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60 % TM (42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24"/>
            <p:cNvSpPr/>
            <p:nvPr/>
          </p:nvSpPr>
          <p:spPr>
            <a:xfrm>
              <a:off x="4546440" y="314496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25"/>
            <p:cNvSpPr/>
            <p:nvPr/>
          </p:nvSpPr>
          <p:spPr>
            <a:xfrm>
              <a:off x="4635360" y="31449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26"/>
            <p:cNvSpPr/>
            <p:nvPr/>
          </p:nvSpPr>
          <p:spPr>
            <a:xfrm>
              <a:off x="1338120" y="3935520"/>
              <a:ext cx="256860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1335240" y="3932280"/>
              <a:ext cx="2571480" cy="581040"/>
            </a:xfrm>
            <a:custGeom>
              <a:avLst/>
              <a:gdLst>
                <a:gd name="textAreaLeft" fmla="*/ 0 w 2571480"/>
                <a:gd name="textAreaRight" fmla="*/ 2571840 w 25714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620" h="366">
                  <a:moveTo>
                    <a:pt x="0" y="0"/>
                  </a:moveTo>
                  <a:lnTo>
                    <a:pt x="0" y="366"/>
                  </a:lnTo>
                  <a:lnTo>
                    <a:pt x="1620" y="366"/>
                  </a:lnTo>
                  <a:lnTo>
                    <a:pt x="162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1618" y="6"/>
                  </a:lnTo>
                  <a:lnTo>
                    <a:pt x="1614" y="2"/>
                  </a:lnTo>
                  <a:lnTo>
                    <a:pt x="1614" y="364"/>
                  </a:lnTo>
                  <a:lnTo>
                    <a:pt x="1618" y="359"/>
                  </a:lnTo>
                  <a:lnTo>
                    <a:pt x="2" y="359"/>
                  </a:lnTo>
                  <a:lnTo>
                    <a:pt x="7" y="364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1445400" y="4027320"/>
              <a:ext cx="235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ИНТРАЦЕЛУЛАРНА ТЕЧНОСТ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2085840" y="4224240"/>
              <a:ext cx="89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40 % TM (28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3008160" y="422424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3097080" y="422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4543560" y="3935520"/>
              <a:ext cx="256860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4540320" y="3932280"/>
              <a:ext cx="2571840" cy="581040"/>
            </a:xfrm>
            <a:custGeom>
              <a:avLst/>
              <a:gdLst>
                <a:gd name="textAreaLeft" fmla="*/ 0 w 2571840"/>
                <a:gd name="textAreaRight" fmla="*/ 2572200 w 257184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620" h="366">
                  <a:moveTo>
                    <a:pt x="0" y="0"/>
                  </a:moveTo>
                  <a:lnTo>
                    <a:pt x="0" y="366"/>
                  </a:lnTo>
                  <a:lnTo>
                    <a:pt x="1620" y="366"/>
                  </a:lnTo>
                  <a:lnTo>
                    <a:pt x="162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1618" y="6"/>
                  </a:lnTo>
                  <a:lnTo>
                    <a:pt x="1614" y="2"/>
                  </a:lnTo>
                  <a:lnTo>
                    <a:pt x="1614" y="364"/>
                  </a:lnTo>
                  <a:lnTo>
                    <a:pt x="1618" y="359"/>
                  </a:lnTo>
                  <a:lnTo>
                    <a:pt x="2" y="359"/>
                  </a:lnTo>
                  <a:lnTo>
                    <a:pt x="6" y="364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4577760" y="4027320"/>
              <a:ext cx="243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ЕКСТРАЦЕЛУЛАРНА ТЕЧНОСТ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5294160" y="4224240"/>
              <a:ext cx="89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0 % TM (14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6216480" y="422424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37"/>
            <p:cNvSpPr/>
            <p:nvPr/>
          </p:nvSpPr>
          <p:spPr>
            <a:xfrm>
              <a:off x="6305400" y="422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3838680" y="5208480"/>
              <a:ext cx="160812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>
              <a:off x="3835440" y="5205240"/>
              <a:ext cx="1611360" cy="581040"/>
            </a:xfrm>
            <a:custGeom>
              <a:avLst/>
              <a:gdLst>
                <a:gd name="textAreaLeft" fmla="*/ 0 w 1611360"/>
                <a:gd name="textAreaRight" fmla="*/ 1611720 w 16113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015" h="366">
                  <a:moveTo>
                    <a:pt x="0" y="0"/>
                  </a:moveTo>
                  <a:lnTo>
                    <a:pt x="0" y="366"/>
                  </a:lnTo>
                  <a:lnTo>
                    <a:pt x="1015" y="366"/>
                  </a:lnTo>
                  <a:lnTo>
                    <a:pt x="1015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1013" y="6"/>
                  </a:lnTo>
                  <a:lnTo>
                    <a:pt x="1008" y="2"/>
                  </a:lnTo>
                  <a:lnTo>
                    <a:pt x="1008" y="363"/>
                  </a:lnTo>
                  <a:lnTo>
                    <a:pt x="1013" y="359"/>
                  </a:lnTo>
                  <a:lnTo>
                    <a:pt x="2" y="359"/>
                  </a:lnTo>
                  <a:lnTo>
                    <a:pt x="7" y="363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40"/>
            <p:cNvSpPr/>
            <p:nvPr/>
          </p:nvSpPr>
          <p:spPr>
            <a:xfrm>
              <a:off x="3966480" y="5300640"/>
              <a:ext cx="128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КРВНА ПЛАЗМА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41"/>
            <p:cNvSpPr/>
            <p:nvPr/>
          </p:nvSpPr>
          <p:spPr>
            <a:xfrm>
              <a:off x="4127400" y="5497560"/>
              <a:ext cx="89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 % TM (3,5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42"/>
            <p:cNvSpPr/>
            <p:nvPr/>
          </p:nvSpPr>
          <p:spPr>
            <a:xfrm>
              <a:off x="5049720" y="54975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Rectangle 43"/>
            <p:cNvSpPr/>
            <p:nvPr/>
          </p:nvSpPr>
          <p:spPr>
            <a:xfrm>
              <a:off x="5097600" y="5497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5891040" y="5208480"/>
              <a:ext cx="269892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>
              <a:off x="5888160" y="5205240"/>
              <a:ext cx="2701800" cy="581040"/>
            </a:xfrm>
            <a:custGeom>
              <a:avLst/>
              <a:gdLst>
                <a:gd name="textAreaLeft" fmla="*/ 0 w 2701800"/>
                <a:gd name="textAreaRight" fmla="*/ 2702160 w 27018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702" h="366">
                  <a:moveTo>
                    <a:pt x="0" y="0"/>
                  </a:moveTo>
                  <a:lnTo>
                    <a:pt x="0" y="366"/>
                  </a:lnTo>
                  <a:lnTo>
                    <a:pt x="1702" y="366"/>
                  </a:lnTo>
                  <a:lnTo>
                    <a:pt x="1702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1700" y="6"/>
                  </a:lnTo>
                  <a:lnTo>
                    <a:pt x="1695" y="2"/>
                  </a:lnTo>
                  <a:lnTo>
                    <a:pt x="1695" y="363"/>
                  </a:lnTo>
                  <a:lnTo>
                    <a:pt x="1700" y="359"/>
                  </a:lnTo>
                  <a:lnTo>
                    <a:pt x="2" y="359"/>
                  </a:lnTo>
                  <a:lnTo>
                    <a:pt x="6" y="363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Rectangle 46"/>
            <p:cNvSpPr/>
            <p:nvPr/>
          </p:nvSpPr>
          <p:spPr>
            <a:xfrm>
              <a:off x="6029640" y="5300640"/>
              <a:ext cx="255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ИНТЕРСТИЦИЈУМСКА ТЕЧНОСТ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47"/>
            <p:cNvSpPr/>
            <p:nvPr/>
          </p:nvSpPr>
          <p:spPr>
            <a:xfrm>
              <a:off x="6639120" y="5497560"/>
              <a:ext cx="1015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5 % TM (10,5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48"/>
            <p:cNvSpPr/>
            <p:nvPr/>
          </p:nvSpPr>
          <p:spPr>
            <a:xfrm>
              <a:off x="7689960" y="549756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49"/>
            <p:cNvSpPr/>
            <p:nvPr/>
          </p:nvSpPr>
          <p:spPr>
            <a:xfrm>
              <a:off x="7778880" y="5497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50"/>
            <p:cNvSpPr/>
            <p:nvPr/>
          </p:nvSpPr>
          <p:spPr>
            <a:xfrm>
              <a:off x="2556000" y="3422520"/>
              <a:ext cx="1604880" cy="516240"/>
            </a:xfrm>
            <a:custGeom>
              <a:avLst/>
              <a:gdLst>
                <a:gd name="textAreaLeft" fmla="*/ 0 w 1604880"/>
                <a:gd name="textAreaRight" fmla="*/ 1605240 w 16048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1011" h="325">
                  <a:moveTo>
                    <a:pt x="1011" y="0"/>
                  </a:moveTo>
                  <a:lnTo>
                    <a:pt x="0" y="321"/>
                  </a:lnTo>
                  <a:lnTo>
                    <a:pt x="0" y="325"/>
                  </a:lnTo>
                  <a:lnTo>
                    <a:pt x="1011" y="5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51"/>
            <p:cNvSpPr/>
            <p:nvPr/>
          </p:nvSpPr>
          <p:spPr>
            <a:xfrm>
              <a:off x="2556000" y="3894120"/>
              <a:ext cx="68040" cy="44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3" h="28">
                  <a:moveTo>
                    <a:pt x="43" y="28"/>
                  </a:moveTo>
                  <a:lnTo>
                    <a:pt x="0" y="26"/>
                  </a:lnTo>
                  <a:lnTo>
                    <a:pt x="35" y="0"/>
                  </a:lnTo>
                  <a:lnTo>
                    <a:pt x="4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52"/>
            <p:cNvSpPr/>
            <p:nvPr/>
          </p:nvSpPr>
          <p:spPr>
            <a:xfrm>
              <a:off x="2549520" y="3890880"/>
              <a:ext cx="79560" cy="507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0" h="32">
                  <a:moveTo>
                    <a:pt x="45" y="30"/>
                  </a:moveTo>
                  <a:lnTo>
                    <a:pt x="47" y="28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41" y="5"/>
                  </a:lnTo>
                  <a:lnTo>
                    <a:pt x="37" y="2"/>
                  </a:lnTo>
                  <a:lnTo>
                    <a:pt x="45" y="30"/>
                  </a:lnTo>
                  <a:lnTo>
                    <a:pt x="50" y="32"/>
                  </a:lnTo>
                  <a:lnTo>
                    <a:pt x="39" y="0"/>
                  </a:lnTo>
                  <a:lnTo>
                    <a:pt x="0" y="30"/>
                  </a:lnTo>
                  <a:lnTo>
                    <a:pt x="50" y="32"/>
                  </a:lnTo>
                  <a:lnTo>
                    <a:pt x="4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53"/>
            <p:cNvSpPr/>
            <p:nvPr/>
          </p:nvSpPr>
          <p:spPr>
            <a:xfrm>
              <a:off x="4160880" y="3422520"/>
              <a:ext cx="1730160" cy="51624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1090" h="325">
                  <a:moveTo>
                    <a:pt x="0" y="5"/>
                  </a:moveTo>
                  <a:lnTo>
                    <a:pt x="1090" y="325"/>
                  </a:lnTo>
                  <a:lnTo>
                    <a:pt x="1090" y="321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54"/>
            <p:cNvSpPr/>
            <p:nvPr/>
          </p:nvSpPr>
          <p:spPr>
            <a:xfrm>
              <a:off x="5823000" y="3894120"/>
              <a:ext cx="68040" cy="47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3" h="30">
                  <a:moveTo>
                    <a:pt x="8" y="0"/>
                  </a:moveTo>
                  <a:lnTo>
                    <a:pt x="43" y="26"/>
                  </a:lnTo>
                  <a:lnTo>
                    <a:pt x="0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55"/>
            <p:cNvSpPr/>
            <p:nvPr/>
          </p:nvSpPr>
          <p:spPr>
            <a:xfrm>
              <a:off x="5819760" y="3890880"/>
              <a:ext cx="77760" cy="55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49" h="35">
                  <a:moveTo>
                    <a:pt x="13" y="2"/>
                  </a:moveTo>
                  <a:lnTo>
                    <a:pt x="8" y="5"/>
                  </a:lnTo>
                  <a:lnTo>
                    <a:pt x="43" y="30"/>
                  </a:lnTo>
                  <a:lnTo>
                    <a:pt x="45" y="26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0" y="35"/>
                  </a:lnTo>
                  <a:lnTo>
                    <a:pt x="49" y="30"/>
                  </a:lnTo>
                  <a:lnTo>
                    <a:pt x="10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56"/>
            <p:cNvSpPr/>
            <p:nvPr/>
          </p:nvSpPr>
          <p:spPr>
            <a:xfrm>
              <a:off x="4608360" y="4505400"/>
              <a:ext cx="1282680" cy="7063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808" h="445">
                  <a:moveTo>
                    <a:pt x="808" y="0"/>
                  </a:moveTo>
                  <a:lnTo>
                    <a:pt x="0" y="441"/>
                  </a:lnTo>
                  <a:lnTo>
                    <a:pt x="0" y="445"/>
                  </a:lnTo>
                  <a:lnTo>
                    <a:pt x="808" y="5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57"/>
            <p:cNvSpPr/>
            <p:nvPr/>
          </p:nvSpPr>
          <p:spPr>
            <a:xfrm>
              <a:off x="4608360" y="5157720"/>
              <a:ext cx="68400" cy="507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3" h="32">
                  <a:moveTo>
                    <a:pt x="43" y="26"/>
                  </a:moveTo>
                  <a:lnTo>
                    <a:pt x="0" y="32"/>
                  </a:lnTo>
                  <a:lnTo>
                    <a:pt x="28" y="0"/>
                  </a:lnTo>
                  <a:lnTo>
                    <a:pt x="4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58"/>
            <p:cNvSpPr/>
            <p:nvPr/>
          </p:nvSpPr>
          <p:spPr>
            <a:xfrm>
              <a:off x="4602240" y="5154480"/>
              <a:ext cx="77760" cy="572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9" h="36">
                  <a:moveTo>
                    <a:pt x="45" y="30"/>
                  </a:moveTo>
                  <a:lnTo>
                    <a:pt x="47" y="26"/>
                  </a:lnTo>
                  <a:lnTo>
                    <a:pt x="4" y="32"/>
                  </a:lnTo>
                  <a:lnTo>
                    <a:pt x="6" y="36"/>
                  </a:lnTo>
                  <a:lnTo>
                    <a:pt x="34" y="4"/>
                  </a:lnTo>
                  <a:lnTo>
                    <a:pt x="30" y="4"/>
                  </a:lnTo>
                  <a:lnTo>
                    <a:pt x="45" y="30"/>
                  </a:lnTo>
                  <a:lnTo>
                    <a:pt x="49" y="28"/>
                  </a:lnTo>
                  <a:lnTo>
                    <a:pt x="32" y="0"/>
                  </a:lnTo>
                  <a:lnTo>
                    <a:pt x="0" y="36"/>
                  </a:lnTo>
                  <a:lnTo>
                    <a:pt x="49" y="28"/>
                  </a:lnTo>
                  <a:lnTo>
                    <a:pt x="4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59"/>
            <p:cNvSpPr/>
            <p:nvPr/>
          </p:nvSpPr>
          <p:spPr>
            <a:xfrm>
              <a:off x="5891040" y="4505400"/>
              <a:ext cx="1413000" cy="706320"/>
            </a:xfrm>
            <a:custGeom>
              <a:avLst/>
              <a:gdLst/>
              <a:ahLst/>
              <a:rect l="l" t="t" r="r" b="b"/>
              <a:pathLst>
                <a:path w="890" h="445">
                  <a:moveTo>
                    <a:pt x="0" y="5"/>
                  </a:moveTo>
                  <a:lnTo>
                    <a:pt x="890" y="445"/>
                  </a:lnTo>
                  <a:lnTo>
                    <a:pt x="890" y="441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60"/>
            <p:cNvSpPr/>
            <p:nvPr/>
          </p:nvSpPr>
          <p:spPr>
            <a:xfrm>
              <a:off x="7230960" y="5157720"/>
              <a:ext cx="73080" cy="507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6" h="32">
                  <a:moveTo>
                    <a:pt x="15" y="0"/>
                  </a:moveTo>
                  <a:lnTo>
                    <a:pt x="46" y="32"/>
                  </a:lnTo>
                  <a:lnTo>
                    <a:pt x="0" y="2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>
              <a:off x="7227720" y="5154480"/>
              <a:ext cx="82800" cy="57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2" h="36">
                  <a:moveTo>
                    <a:pt x="20" y="2"/>
                  </a:moveTo>
                  <a:lnTo>
                    <a:pt x="15" y="4"/>
                  </a:lnTo>
                  <a:lnTo>
                    <a:pt x="45" y="36"/>
                  </a:lnTo>
                  <a:lnTo>
                    <a:pt x="48" y="32"/>
                  </a:lnTo>
                  <a:lnTo>
                    <a:pt x="2" y="28"/>
                  </a:lnTo>
                  <a:lnTo>
                    <a:pt x="5" y="30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0" y="30"/>
                  </a:lnTo>
                  <a:lnTo>
                    <a:pt x="52" y="36"/>
                  </a:lnTo>
                  <a:lnTo>
                    <a:pt x="17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2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5BCE-6A01-4616-84BB-BB935895235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187280" y="12672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Нормални унос и губитак в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87280" y="2349360"/>
          <a:ext cx="7623360" cy="3459240"/>
        </p:xfrm>
        <a:graphic>
          <a:graphicData uri="http://schemas.openxmlformats.org/drawingml/2006/table">
            <a:tbl>
              <a:tblPr/>
              <a:tblGrid>
                <a:gridCol w="2416320"/>
                <a:gridCol w="1393920"/>
                <a:gridCol w="1908000"/>
                <a:gridCol w="1905120"/>
              </a:tblGrid>
              <a:tr h="753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Дневни унос </a:t>
                      </a:r>
                      <a:r>
                        <a:rPr b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(</a:t>
                      </a:r>
                      <a:r>
                        <a:rPr b="1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l</a:t>
                      </a:r>
                      <a:r>
                        <a:rPr b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Дневни губитак </a:t>
                      </a:r>
                      <a:r>
                        <a:rPr b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(</a:t>
                      </a:r>
                      <a:r>
                        <a:rPr b="1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l</a:t>
                      </a:r>
                      <a:r>
                        <a:rPr b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Вода и друге те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1400-1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Ур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1400-1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Хр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700-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Стол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Метаболичка 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300-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Кож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300-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Плућ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600-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2400-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99"/>
                          </a:solidFill>
                          <a:latin typeface="Arial Unicode MS"/>
                          <a:ea typeface="Times New Roman"/>
                        </a:rPr>
                        <a:t>2400-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3A14-22AF-4BAB-82A7-3ADF5D85248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066680"/>
          <a:ext cx="7086600" cy="2845080"/>
        </p:xfrm>
        <a:graphic>
          <a:graphicData uri="http://schemas.openxmlformats.org/drawingml/2006/table">
            <a:tbl>
              <a:tblPr/>
              <a:tblGrid>
                <a:gridCol w="2514600"/>
                <a:gridCol w="1066680"/>
                <a:gridCol w="936720"/>
                <a:gridCol w="1509480"/>
                <a:gridCol w="1059120"/>
              </a:tblGrid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ЕКСТРАЦЕЛУЛАР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ТЕЧ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Катјо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А</a:t>
                      </a: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ј</a:t>
                      </a: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о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Na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HCO</a:t>
                      </a:r>
                      <a:r>
                        <a:rPr b="0" lang="sr-Latn-CS" sz="1800" spc="-1" strike="noStrike" baseline="-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3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K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Cl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Ca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HPO</a:t>
                      </a:r>
                      <a:r>
                        <a:rPr b="0" lang="sr-Latn-CS" sz="1800" spc="-1" strike="noStrike" baseline="-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4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g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Проте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Други а</a:t>
                      </a: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ј</a:t>
                      </a: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о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990720" y="3886200"/>
          <a:ext cx="7086600" cy="2844720"/>
        </p:xfrm>
        <a:graphic>
          <a:graphicData uri="http://schemas.openxmlformats.org/drawingml/2006/table">
            <a:tbl>
              <a:tblPr/>
              <a:tblGrid>
                <a:gridCol w="2541600"/>
                <a:gridCol w="1039680"/>
                <a:gridCol w="936720"/>
                <a:gridCol w="1509480"/>
                <a:gridCol w="1059120"/>
              </a:tblGrid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ИНТРАЦЕЛУЛАР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ТЕЧ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Катјо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А</a:t>
                      </a: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ј</a:t>
                      </a: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о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Na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HCO</a:t>
                      </a:r>
                      <a:r>
                        <a:rPr b="0" lang="sr-Latn-CS" sz="1800" spc="-1" strike="noStrike" baseline="-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3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K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Cl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Ca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HPO</a:t>
                      </a:r>
                      <a:r>
                        <a:rPr b="0" lang="sr-Latn-CS" sz="1800" spc="-1" strike="noStrike" baseline="-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4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40-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g</a:t>
                      </a:r>
                      <a:r>
                        <a:rPr b="0" lang="sr-Latn-CS" sz="18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Проте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Други а</a:t>
                      </a: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нј</a:t>
                      </a:r>
                      <a:r>
                        <a:rPr b="0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о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31-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Око </a:t>
                      </a:r>
                      <a:r>
                        <a:rPr b="1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89" name="Text Box 84"/>
          <p:cNvSpPr/>
          <p:nvPr/>
        </p:nvSpPr>
        <p:spPr>
          <a:xfrm>
            <a:off x="914400" y="457200"/>
            <a:ext cx="54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Електролитни састав телесних те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D78A-7ECB-42EC-81A1-A75E4684CE2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97480" y="548280"/>
            <a:ext cx="43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Осмолалност телесних те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58920" y="1268280"/>
          <a:ext cx="6248520" cy="2362320"/>
        </p:xfrm>
        <a:graphic>
          <a:graphicData uri="http://schemas.openxmlformats.org/drawingml/2006/table">
            <a:tbl>
              <a:tblPr/>
              <a:tblGrid>
                <a:gridCol w="3693960"/>
                <a:gridCol w="513000"/>
                <a:gridCol w="2041560"/>
              </a:tblGrid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Ц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280 </a:t>
                      </a:r>
                      <a:r>
                        <a:rPr b="1" i="1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Osm/kgH</a:t>
                      </a:r>
                      <a:r>
                        <a:rPr b="1" i="1" lang="sr-Latn-CS" sz="1800" spc="-1" strike="noStrike" baseline="-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2</a:t>
                      </a:r>
                      <a:r>
                        <a:rPr b="1" i="1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d3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Ц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280 </a:t>
                      </a:r>
                      <a:r>
                        <a:rPr b="1" i="1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Osm/kgH</a:t>
                      </a:r>
                      <a:r>
                        <a:rPr b="1" i="1" lang="sr-Latn-CS" sz="1800" spc="-1" strike="noStrike" baseline="-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2</a:t>
                      </a:r>
                      <a:r>
                        <a:rPr b="1" i="1" lang="sr-Latn-CS" sz="18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444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13"/>
          <p:cNvSpPr/>
          <p:nvPr/>
        </p:nvSpPr>
        <p:spPr>
          <a:xfrm>
            <a:off x="1187280" y="3464280"/>
            <a:ext cx="7417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смолалност (концентрација осмотски активних честица) ИЦТ и ЕЦТ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је приближно ист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изоосмиј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/5 укупне осмолалности ЕЦТ одржавају Na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и Cl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/2 укупне осмолалности ИЦТ одржавају K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Symbol" charset="2"/>
              <a:buChar char="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уле за израчунавање укупне и ефективне осмолалности плазм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Ук. Posm = 2 × Na + глукоза + уре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Ук. Posm = 2 × Na + 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Еф. Posm = 2 × Na + глук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9388-A5F9-4BE9-B098-3035C7C3897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971640" y="764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Компаративни приказ ИЦТ и ЕЦ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752480"/>
          <a:ext cx="8291520" cy="3140280"/>
        </p:xfrm>
        <a:graphic>
          <a:graphicData uri="http://schemas.openxmlformats.org/drawingml/2006/table">
            <a:tbl>
              <a:tblPr/>
              <a:tblGrid>
                <a:gridCol w="3898800"/>
                <a:gridCol w="503280"/>
                <a:gridCol w="3889440"/>
              </a:tblGrid>
              <a:tr h="31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ИЦ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Волумен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: 28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Na</a:t>
                      </a:r>
                      <a:r>
                        <a:rPr b="0" lang="sr-Latn-CS" sz="20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	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  10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Cl</a:t>
                      </a:r>
                      <a:r>
                        <a:rPr b="0" lang="sr-Latn-CS" sz="20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-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	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    4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K</a:t>
                      </a:r>
                      <a:r>
                        <a:rPr b="0" lang="sr-Latn-CS" sz="20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	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156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Укупна јонс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концентрација: 392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Осмолалност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: 280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 mOsm/kgH</a:t>
                      </a:r>
                      <a:r>
                        <a:rPr b="0" i="1" lang="sr-Latn-CS" sz="2000" spc="-1" strike="noStrike" baseline="-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2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d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ЕЦ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Волумен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: 14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Na</a:t>
                      </a:r>
                      <a:r>
                        <a:rPr b="0" lang="sr-Latn-CS" sz="20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	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  142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Cl</a:t>
                      </a:r>
                      <a:r>
                        <a:rPr b="0" lang="sr-Latn-CS" sz="20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-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	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  104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K</a:t>
                      </a:r>
                      <a:r>
                        <a:rPr b="0" lang="sr-Latn-CS" sz="2000" spc="-1" strike="noStrike" baseline="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+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	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      5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Укупна јонс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концентрација: 308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mol/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Осмолалност</a:t>
                      </a:r>
                      <a:r>
                        <a:rPr b="0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: 280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mOsm/kgH</a:t>
                      </a:r>
                      <a:r>
                        <a:rPr b="0" i="1" lang="sr-Latn-CS" sz="2000" spc="-1" strike="noStrike" baseline="-30000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2</a:t>
                      </a:r>
                      <a:r>
                        <a:rPr b="0" i="1" lang="sr-Latn-CS" sz="2000" spc="-1" strike="noStrike">
                          <a:solidFill>
                            <a:srgbClr val="000066"/>
                          </a:solidFill>
                          <a:latin typeface="Arial Unicode MS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444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Predrag Canovic</cp:lastModifiedBy>
  <dcterms:modified xsi:type="dcterms:W3CDTF">2023-02-03T01:45:57Z</dcterms:modified>
  <cp:revision>96</cp:revision>
  <dc:subject/>
  <dc:title>Slide 1</dc:title>
</cp:coreProperties>
</file>